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528-A028-4E24-B15C-445BCE2F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C8E-0EFF-426B-BBF0-C7457145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B06-ABD5-4B23-8AED-DC841D52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1D1-324F-47F8-818A-2F7ED63F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354E-0115-4C55-9533-B79C2D4B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E841-61D8-4473-B5CE-C712F0FD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A438-62A3-4347-BECA-EAD7AAE6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7F15-10D3-4294-82B3-4A11BB15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E319-7071-42C0-BA7B-7614BA58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CA46-F458-44BA-8507-0A519A8C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DE43-EBB7-48CB-9318-1902485A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C48-12CD-4A9D-8CEB-C33F5197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EF5B-4E60-434C-8182-6AA2B9CD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4AAE-9C89-45C0-A666-ACEF9202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A4F9-6484-46A1-A978-6AC68C41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4283-149F-4291-BFAB-68392989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F338-078D-42C6-AAEE-CC95552B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6D7-C0E5-457E-A01A-EDDF9639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CE4-AAD0-4F4B-B6AC-65FAF588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600-050B-4EE5-8ACC-5034E32C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47B-BA34-4DC5-9DA7-48E676A7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499-4FCD-44D0-A7A2-0BF440E1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26A-1432-4B8D-A1EF-26EF17B9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F71-910D-4255-B28E-719E56C2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1854-A70E-4CE5-AC1B-702EF3ABC1C2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BB25-8367-4128-8E2E-3A408CE19251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lease Excuse My Dear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unt Sall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50 - 10(4-2) + 6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(9) - 3(6 - 1) + 1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8 + 24/4 * 2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30 - 3(4) + 2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0 - 4 *2 + 3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066320" y="15238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4 + 6(3 * 2) - 3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00 - 10 (2 * 3)+ 4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2624040"/>
          <a:ext cx="7696080" cy="14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24040"/>
                    <a:ext cx="76960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06400" y="1962000"/>
          <a:ext cx="7605720" cy="27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962000"/>
                    <a:ext cx="760572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7520" y="1962000"/>
          <a:ext cx="5703840" cy="27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7520" y="1962000"/>
                    <a:ext cx="570384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320" y="6858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8 - 6(2)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4 or 6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42880" y="1916280"/>
          <a:ext cx="633420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1916280"/>
                    <a:ext cx="633420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0000" y="1962000"/>
          <a:ext cx="6338880" cy="27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000" y="1962000"/>
                    <a:ext cx="633888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979720" y="1962000"/>
          <a:ext cx="3260880" cy="27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9720" y="1962000"/>
                    <a:ext cx="3260880" cy="27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22520" y="2755800"/>
          <a:ext cx="5975280" cy="11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2520" y="2755800"/>
                    <a:ext cx="59752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436840" y="1873080"/>
          <a:ext cx="4346640" cy="29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6840" y="1873080"/>
                    <a:ext cx="4346640" cy="29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68560" y="2536920"/>
          <a:ext cx="6881760" cy="15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8560" y="2536920"/>
                    <a:ext cx="6881760" cy="15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2590920"/>
          <a:ext cx="8229600" cy="14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229600" cy="14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5335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0 x 2 + 4 - 3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1 or 30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90720" y="6094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7 x 5 + 2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37 or 49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19320" y="8380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2/3 + 2 - 1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3 or 5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66680" y="6094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(2 + 3) x 6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0 or 30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6212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0 x 2 + 4 - 3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21 or 30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76212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 - 2 + 3 x 2 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5 or 4?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68580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(5 + 2) - 3 x 4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330000"/>
                </a:solidFill>
                <a:latin typeface="Arial"/>
              </a:rPr>
              <a:t>16 or -5? </a:t>
            </a:r>
            <a:endParaRPr b="0" lang="en-US" sz="6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7:53:26Z</dcterms:created>
  <dc:creator>PA Department of Education</dc:creator>
  <dc:description/>
  <dc:language>en-US</dc:language>
  <cp:lastModifiedBy>PA Department of Education</cp:lastModifiedBy>
  <dcterms:modified xsi:type="dcterms:W3CDTF">2008-09-14T11:26:47Z</dcterms:modified>
  <cp:revision>7</cp:revision>
  <dc:subject/>
  <dc:title>Order of Operations</dc:title>
</cp:coreProperties>
</file>